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2EEC2-DDAC-4E82-A865-894AFB7115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85D05-70A0-49CE-9B3E-1E3B30D08D9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786E3-8A56-429C-896F-281B359E765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54CBA-B174-4008-A7D2-318BD4139A7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53B4C-D450-44B6-A23F-495AEB9037E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90CB7-D31F-4E56-BB91-E8271EB829E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FF658-E8E6-4D64-8C49-CAF987F4A9C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60503-0121-4723-8181-D63579A4E48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34152-6ED6-4711-8D6B-5DA3F254D86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4BCFA-0969-46CE-BD34-1D1FE785817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A03B8-4253-4D03-B94D-92322CAE9FB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DCC3E-A3F9-461D-9570-5692FA5893B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7DC92-AEB3-4D96-8D73-CF3400E841B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64699-C58D-4276-835D-081D813C6E0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ED6BE-70CE-41B6-B20A-0D90B8EB5D2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B8B92-CC5D-425F-BDFA-2E6BB35AA8A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9B15A-C7FB-4CB2-BB57-A88FB85439F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CFDBD-3624-44C2-B7F3-B777BE1C068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DCA6C-D3BB-472C-BEF0-25B16512FCC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7A07A-3D73-4338-9695-B62D66D8EA5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A5164-CD69-46B7-903E-498B0107A14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0550E-4898-4227-BC89-B4608978907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5C84A-4C02-4751-9397-318C70AA302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5ACD5-D98B-4DF4-B1F3-594E74CC7AA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99A50-2D85-4FF7-BF11-14B1BAA99E4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F7A09-1552-4818-AD03-33094010501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ADC7-95BA-4FF4-8D3D-087F68288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9EF5-CA18-41CF-BB86-0859DD00A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E5D8-153E-4E92-A19B-EAA1B6254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CCA1-C851-40FB-ACD6-A6B445C10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AFEC-F288-45E1-B816-CAAB499E7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221B-DAC3-469D-B283-E4E2B113F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2F29-FDDB-4F4E-BA17-32AD0E6ED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0A4B-6393-475E-AE78-5B69A593D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BB5E-35BE-4FDD-984E-C699B67AA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B2A2-CE52-4144-BF48-65E3C5C92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4E32-DF71-467A-9B06-A3983AB79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366B-F0FD-494B-A723-38A8FD0DA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6485C-69D9-41E0-B8F5-2A9266A0416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nj.gov/education/njpep/assessment/hspa/hspa_math/index.ht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What is the HSPA??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 HSPA (March 2007) the raw points necessary to achieve “proficient” was about 50%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open-ended items on the HSPA have a rubric.  You can receive a 3, 2,1, or 0 for your work on each open ended ques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 points – Everything correct (a minor error is sometimes acceptabl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 points – Something wro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point – Something corr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 points – Nothing corr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Is the HSPA the same as the SAT??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!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some differenc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s on the SAT are ordered from easiest to hardest.  On the HSPA they are not. You could have the easiest question last, so don’t stop when you get to a hard question and give up.  Keep on trying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AT penalizes for guessing, but the HSPA does not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T multiple choice questions have 5 choices, the HSPA only has 4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*Hint: Narrow down your choice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o how should you approach each problem??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, read th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tir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roblem, including the answer choices if it is multiple choi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, ask yourself if you can do the problem.  Your answer should be Yes (Y), No (N) or Maybe (M). Put this letter next to the probl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If your answer is y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t a Y next to the problem fir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 the problem out, check your answer, and mark the answer on your answer she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If your answer is no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means, no matter how long you work on the problem, you feel like you will never be able to work it ou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t an N next to the probl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oose the best answer that you can, mark it on your answer document, and move to the next ques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If your answer is maybe.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ce an M next to the problem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this point, continue on to the next probl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the end of the test, come back and work on each question that has an M next to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Double Check Before Time is Called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sure that you have an answer for each and every ques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ncludes both multiple choice and open ended ques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ow to approach Open Ended Ques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sure to read the entire question before beginning work on the probl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may not be able to answer every part of the question, but answer the parts that you can (might not be part A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HSPA - Overview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HSPA  is the High School Proficiency Assessment that is given to juniors in New Jersey’s  public schoo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tes are required by federal law to use tests as a way of determining the performance levels of  schoo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tests are designed to assess how well students are learning the knowledge and skills called for by New Jersey’s standar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ssing the HSPA (or SRA) is a graduation require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example, maybe the question has 3 parts, A, B, and C.  You didn’t know how to do parts A or B, but you know that you could get the answer to part C by adding the answers for A and B toget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xt to part C, state that to get the answer you would add the answers from A and B.  That would get you some point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ext slide shows an example of an open ended ques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ke out some paper and try it yourself then we will look at some other student responses so that you can see how you di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rcRect l="15627" t="47141" r="2858" b="4036"/>
          <a:stretch/>
        </p:blipFill>
        <p:spPr>
          <a:xfrm>
            <a:off x="0" y="0"/>
            <a:ext cx="9159840" cy="3200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"/>
          <p:cNvPicPr/>
          <p:nvPr/>
        </p:nvPicPr>
        <p:blipFill>
          <a:blip r:embed="rId2"/>
          <a:srcRect l="15556" t="46668" r="14268" b="5215"/>
          <a:stretch/>
        </p:blipFill>
        <p:spPr>
          <a:xfrm>
            <a:off x="0" y="3200400"/>
            <a:ext cx="9144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4" name="Content Placeholder 2"/>
          <p:cNvSpPr/>
          <p:nvPr/>
        </p:nvSpPr>
        <p:spPr>
          <a:xfrm>
            <a:off x="457200" y="1600200"/>
            <a:ext cx="25909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paper would receive a score of 3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t has correct answers to every part and the work is explained clearl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rcRect l="0" t="14286" r="57780" b="5714"/>
          <a:stretch/>
        </p:blipFill>
        <p:spPr>
          <a:xfrm>
            <a:off x="3048120" y="304920"/>
            <a:ext cx="579096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rcRect l="0" t="23573" r="59822" b="41075"/>
          <a:stretch/>
        </p:blipFill>
        <p:spPr>
          <a:xfrm>
            <a:off x="533520" y="228600"/>
            <a:ext cx="7659720" cy="3932280"/>
          </a:xfrm>
          <a:prstGeom prst="rect">
            <a:avLst/>
          </a:prstGeom>
          <a:ln w="0">
            <a:noFill/>
          </a:ln>
        </p:spPr>
      </p:pic>
      <p:sp>
        <p:nvSpPr>
          <p:cNvPr id="98" name="TextBox 4"/>
          <p:cNvSpPr/>
          <p:nvPr/>
        </p:nvSpPr>
        <p:spPr>
          <a:xfrm>
            <a:off x="457200" y="4495680"/>
            <a:ext cx="8077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response would receive a score of 2, because it has something wrong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part d, this student said that n= the sum of the row times 2 (n=28) and it should state that the sum of the line equals 2 to the nth power or sum=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0" name="Content Placeholder 2"/>
          <p:cNvSpPr/>
          <p:nvPr/>
        </p:nvSpPr>
        <p:spPr>
          <a:xfrm>
            <a:off x="5029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response would receive 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, because although it has 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T wrong, it does hav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thing right.  The table i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 b is correct.  The othe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s (a, c, and d) are al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orrec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rcRect l="0" t="21908" r="67223" b="14286"/>
          <a:stretch/>
        </p:blipFill>
        <p:spPr>
          <a:xfrm>
            <a:off x="457200" y="304920"/>
            <a:ext cx="44956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itle 1"/>
          <p:cNvSpPr/>
          <p:nvPr/>
        </p:nvSpPr>
        <p:spPr>
          <a:xfrm>
            <a:off x="304920" y="4495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This response would receive a 0 (zero).  Although we can’t tell which part the student is trying to answer, this isn’t correct for any of the parts.</a:t>
            </a:r>
            <a:br>
              <a:rPr sz="2000"/>
            </a:b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Remember, something has to be correct for you to receive points.!</a:t>
            </a:r>
            <a:br>
              <a:rPr sz="2000"/>
            </a:b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It’s the QUALITY not the QUANTITY of work that gets the points!+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rcRect l="0" t="21890" r="79465" b="46128"/>
          <a:stretch/>
        </p:blipFill>
        <p:spPr>
          <a:xfrm>
            <a:off x="533520" y="304920"/>
            <a:ext cx="432756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Here is a website with additional practice that you can check out at home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ccff"/>
                </a:solidFill>
                <a:uFillTx/>
                <a:latin typeface="Arial"/>
                <a:hlinkClick r:id="rId1"/>
              </a:rPr>
              <a:t>http://www.nj.gov/education/njpep/assessment/hspa/hspa_math/index.ht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HSPA assesses 4 mathematical are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ndard 1 – Number and Numerical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umber Sen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umerical Op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sti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ndard 2 – Geometry &amp; Measur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ometric Proper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nsforming Sha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ordinates of Geome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its of Measur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asuring Geometric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ndard 3 – Patterns and Algeb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tterns and Relationshi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de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ced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ndard 4 – Data Analysis, Probability, and Discrete Mathema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ta Analysis (Statistic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b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crete Mathematics – systematic listing and coun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crete Mathematics – vertex-edge graphs and algorith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HSPA has two major types of ques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ltiple choice – the students are asked to choose one correct answer from among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u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hoic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econd type of question is the open-ended question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udents will answer these questions with short or long written respon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udents may also present their response using diagrams, graphics, and/or pictur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SPA contains a total of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48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4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multiple choice item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pen-ended item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ach multiple choice item is worth 1 poi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ach open-ended item is worth 3 poi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14:38:04Z</dcterms:created>
  <dc:creator>Timothy J Giordano</dc:creator>
  <dc:description/>
  <dc:language>en-US</dc:language>
  <cp:lastModifiedBy>mdodd</cp:lastModifiedBy>
  <dcterms:modified xsi:type="dcterms:W3CDTF">2009-02-02T19:38:20Z</dcterms:modified>
  <cp:revision>62</cp:revision>
  <dc:subject/>
  <dc:title>New Jersey Assessment of Skills and Knowledge (NJ ASK)</dc:title>
</cp:coreProperties>
</file>